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937-20D0-4CBD-A60C-DCE397CD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E46C-0C2B-4B8E-8922-E7A89442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608-01CD-4C92-BE49-2DA32AEC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E50-FA9D-4CD8-ABFC-6F1C3F48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ADAE-70CE-4194-BF92-F0C8B71F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4EE2-A74D-4D7F-8E12-DF8DD0A1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8576-92FB-4E3D-8C51-1EBE1937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E394-8967-4D9E-BF25-7D25E339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F079-3AB5-453F-B2E9-DAB4DE4C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FD29-1437-48B8-997B-CEE2FA61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2F23-2AA2-4443-A7B7-DC520F32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C8DA-3C18-4F51-A0B9-9683161E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15F7-13A2-4B4F-A36B-F3670C8C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874B-6452-4BDD-81CA-84FD6BEC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8242-40CD-4F5E-A87A-4CEF7DEF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1A3E-789A-4582-9E61-254FBF29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6095-2F91-4ABB-B446-FDA87A21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A09-E748-412D-829E-EEDC9637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555-218E-4BCC-AAAD-D3E1BD32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AF6-3B2F-4A70-8664-FA4A1B85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5B0-84B5-4821-97F1-692FC8D3F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72C-F8E8-4808-8CB7-BE11E2B9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00E-0DBE-4891-9E1E-DD28A0D8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7FC-D42F-4B00-8F9D-38D9AF08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58b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F7D2-925E-4425-9C05-952AF0522918}" type="datetime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C8DA-B151-429D-8AC9-8EFE7A095FA3}" type="slidenum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70D9-A06B-458B-B194-426B857EA86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2CF7-D1BB-4D35-A895-EBA5C6D76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58b7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8b7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58b7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58b7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58b7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219320"/>
            <a:ext cx="716292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486400"/>
            <a:ext cx="67820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urso de Liderazgo –Nivel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00200" y="2362320"/>
            <a:ext cx="64008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person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ntrenamiento para la vid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espiritu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Necesidad de amistad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15000" y="4946760"/>
            <a:ext cx="289548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90360" y="7621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Ayuda en los procesos curativos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Mejor situación económic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vangelismo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ducación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Seguridad financier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283440" y="3200400"/>
            <a:ext cx="2022480" cy="273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Evaluando  Su Comunidad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Reúnase con su comis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mience con orac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loque el amor en primer lugar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nozca a los miembros de su iglesia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Familiarícese con sus vecinos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76160" y="990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Valore las ideas de cada mujer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Delimite las necesidade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Sea sensibl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Reuniones participativa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Grupos de enfoqu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2565360" cy="309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ffffff"/>
                </a:solidFill>
                <a:latin typeface="Arial"/>
              </a:rPr>
              <a:t>Encuestas – Planificación e Implementación</a:t>
            </a:r>
            <a:endParaRPr b="0" lang="en-US" sz="37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100" spc="-1" strike="noStrike">
                <a:solidFill>
                  <a:srgbClr val="ffff00"/>
                </a:solidFill>
                <a:latin typeface="Arial"/>
              </a:rPr>
              <a:t>Una buena encuesta le dirá:</a:t>
            </a: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marL="322200" indent="0">
              <a:lnSpc>
                <a:spcPct val="4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de los ministerios que están activos actualmente en la iglesia son de interés para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necesidad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Quiénes son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Las formas que las mujeres están dispuestas a servir a otr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interes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Las encuestas deben incluir: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lugar para escribir el nombre, dirección, teléfono y el grupo de edad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ellas desean asistir a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lista de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indicar  en que ministerio están participando actualmente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71240" y="609120"/>
            <a:ext cx="6629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unirse a los ministerios actu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en blanco para que enumeren sus habilidades e intereses especi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ayudar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que enumeren sus necesidad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lgo para cada grupo de mujer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17:50:03Z</dcterms:created>
  <dc:creator>Dan &amp; Lynnetta Hamstra</dc:creator>
  <dc:description/>
  <dc:language>en-US</dc:language>
  <cp:lastModifiedBy>Sede Administrativa</cp:lastModifiedBy>
  <dcterms:modified xsi:type="dcterms:W3CDTF">2003-05-13T13:56:07Z</dcterms:modified>
  <cp:revision>29</cp:revision>
  <dc:subject/>
  <dc:title>Women’s Needs Assessment in the Local Church</dc:title>
</cp:coreProperties>
</file>